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B86-3C70-4724-B122-928EA51B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2A45-9CAF-446A-9798-3C95B833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FAF-FBF2-43C0-A28F-3378002F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E37-9A83-4B47-9AA0-A2E5AF06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122-48F5-4A50-9A34-7B7E4AB2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7BE-3486-4933-8AF3-AE536ABB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324-6271-425A-B60E-64CB7D48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7F4-20C3-4A60-B57D-DC5814D3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D20-03DD-47CC-9011-E16B0B42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AFB-9217-4A9E-B59E-162A9812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483-8BAD-4C5C-B34E-70499836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AB1-7C25-4EC6-A3A8-0431D153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7E6-4673-4FE0-89B6-E3957EE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95B-644D-44E0-9870-F456E19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8EED-85F7-4710-A030-BE554E0C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6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uenos dias a todas mis amigas ¿Quien quiere irse al parque q jugar voliebo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74320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Yo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4479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743200" y="3886200"/>
            <a:ext cx="3809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E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puedo ir pero tengo que estar en la casa pronto  porque  tengo que hacer mi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areas para irme a la escuela manan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ibe algo…                                                      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Muy bien. Y fantastico. Tu eres muy buena en voliebol kath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n mas pueden i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Kat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amiga. ¿cómo estas? Y  Yo quiero ir a jugar volieb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en puedo ir. ¿En donde nos vem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9" descr="Photo on 2011-10-21 at 13.53 #2.jpg"/>
          <p:cNvPicPr/>
          <p:nvPr/>
        </p:nvPicPr>
        <p:blipFill>
          <a:blip r:embed="rId4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666880" y="5181480"/>
            <a:ext cx="4496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Bet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gualmente. Yo tambien puedo ir pero tengo que estar en la casa pronto para cen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2" descr="Photo on 2011-10-21 at 13.46.jpg"/>
          <p:cNvPicPr/>
          <p:nvPr/>
        </p:nvPicPr>
        <p:blipFill>
          <a:blip r:embed="rId5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ay entonce nos vemos afuera mi casa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77256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20204_393328290743197_1698626473_n.jpg"/>
          <p:cNvPicPr/>
          <p:nvPr/>
        </p:nvPicPr>
        <p:blipFill>
          <a:blip r:embed="rId6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7"/>
          <a:stretch/>
        </p:blipFill>
        <p:spPr>
          <a:xfrm>
            <a:off x="228600" y="5257800"/>
            <a:ext cx="53352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52280" y="5715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82890_472189296142141_2129182302_n.jpg"/>
          <p:cNvPicPr/>
          <p:nvPr/>
        </p:nvPicPr>
        <p:blipFill>
          <a:blip r:embed="rId8"/>
          <a:srcRect l="7445" t="42084" r="45039" b="0"/>
          <a:stretch/>
        </p:blipFill>
        <p:spPr>
          <a:xfrm>
            <a:off x="838080" y="5257800"/>
            <a:ext cx="56376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67874_531360506891686_597812273_n.jpg"/>
          <p:cNvPicPr/>
          <p:nvPr/>
        </p:nvPicPr>
        <p:blipFill>
          <a:blip r:embed="rId9"/>
          <a:srcRect l="75669" t="-1140" r="0" b="62387"/>
          <a:stretch/>
        </p:blipFill>
        <p:spPr>
          <a:xfrm>
            <a:off x="1447920" y="524016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582018_472182296142841_1457810963_n.jpg"/>
          <p:cNvPicPr/>
          <p:nvPr/>
        </p:nvPicPr>
        <p:blipFill>
          <a:blip r:embed="rId10"/>
          <a:srcRect l="6207" t="-954" r="39793" b="18459"/>
          <a:stretch/>
        </p:blipFill>
        <p:spPr>
          <a:xfrm>
            <a:off x="228600" y="5943600"/>
            <a:ext cx="368280" cy="4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582018_472182296142841_1457810963_n.jpg"/>
          <p:cNvPicPr/>
          <p:nvPr/>
        </p:nvPicPr>
        <p:blipFill>
          <a:blip r:embed="rId11"/>
          <a:srcRect l="6207" t="-954" r="39793" b="18459"/>
          <a:stretch/>
        </p:blipFill>
        <p:spPr>
          <a:xfrm>
            <a:off x="2133720" y="2514600"/>
            <a:ext cx="39852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6" descr="20204_393328290743197_1698626473_n.jpg"/>
          <p:cNvPicPr/>
          <p:nvPr/>
        </p:nvPicPr>
        <p:blipFill>
          <a:blip r:embed="rId12"/>
          <a:stretch/>
        </p:blipFill>
        <p:spPr>
          <a:xfrm>
            <a:off x="2057400" y="32004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282890_472189296142141_2129182302_n.jpg"/>
          <p:cNvPicPr/>
          <p:nvPr/>
        </p:nvPicPr>
        <p:blipFill>
          <a:blip r:embed="rId13"/>
          <a:srcRect l="7445" t="42084" r="45039" b="0"/>
          <a:stretch/>
        </p:blipFill>
        <p:spPr>
          <a:xfrm>
            <a:off x="2133720" y="3809880"/>
            <a:ext cx="480960" cy="43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3" descr="252745_438597766185460_631170603_n.jpg"/>
          <p:cNvPicPr/>
          <p:nvPr/>
        </p:nvPicPr>
        <p:blipFill>
          <a:blip r:embed="rId1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4" descr="252745_438597766185460_631170603_n.jpg"/>
          <p:cNvPicPr/>
          <p:nvPr/>
        </p:nvPicPr>
        <p:blipFill>
          <a:blip r:embed="rId15"/>
          <a:stretch/>
        </p:blipFill>
        <p:spPr>
          <a:xfrm>
            <a:off x="213372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67874_531360506891686_597812273_n.jpg"/>
          <p:cNvPicPr/>
          <p:nvPr/>
        </p:nvPicPr>
        <p:blipFill>
          <a:blip r:embed="rId16"/>
          <a:srcRect l="75669" t="-1140" r="0" b="62387"/>
          <a:stretch/>
        </p:blipFill>
        <p:spPr>
          <a:xfrm>
            <a:off x="2057400" y="5105520"/>
            <a:ext cx="4572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0:55Z</dcterms:created>
  <dc:creator>FriscoISD</dc:creator>
  <dc:description/>
  <dc:language>en-US</dc:language>
  <cp:lastModifiedBy>User</cp:lastModifiedBy>
  <dcterms:modified xsi:type="dcterms:W3CDTF">2013-01-02T14:07:18Z</dcterms:modified>
  <cp:revision>108</cp:revision>
  <dc:subject/>
  <dc:title>Profile</dc:title>
</cp:coreProperties>
</file>